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FB9-2EEE-44A9-A7FB-756BC384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7D0-B477-43B8-BA7B-C958A3D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F72-0A24-4A91-BE96-8454B7CF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072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92200"/>
            <a:ext cx="24998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48A-2077-403B-A0E6-1F9C405C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2C8-AE7E-4B25-97AA-6A89FE1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1A5-04B1-4034-A445-492628E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60A-0EBA-447B-836D-7B0158E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1CA-DA3D-4E81-8308-151960D9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4480" cy="66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166-3531-4A24-BD32-DA05AE3B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D84D-B3BE-4143-B3CE-9A48A54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9220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3B2-EC51-4F36-94EC-7B55085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0720"/>
            <a:ext cx="3789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4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8BA-5962-4062-9B8B-3E202CE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4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44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27792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1FA9-E716-49F6-A0CE-2F0043513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828800"/>
            <a:ext cx="4647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ISM Worksh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loating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6095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hort draf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3962520" y="5334120"/>
            <a:ext cx="111096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logo_cetmef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9396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zone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259092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057400"/>
            <a:ext cx="5335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85800" y="1981080"/>
            <a:ext cx="1295280" cy="914400"/>
            <a:chOff x="685800" y="1981080"/>
            <a:chExt cx="1295280" cy="914400"/>
          </a:xfrm>
        </p:grpSpPr>
        <p:sp>
          <p:nvSpPr>
            <p:cNvPr id="63" name=""/>
            <p:cNvSpPr/>
            <p:nvPr/>
          </p:nvSpPr>
          <p:spPr>
            <a:xfrm>
              <a:off x="1752480" y="19810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4382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666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76720" y="6248520"/>
            <a:ext cx="3657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6019920"/>
            <a:ext cx="143964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tholittoral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ubdi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497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3240" y="53341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638680"/>
            <a:ext cx="283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rest: po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438280"/>
            <a:ext cx="16002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43400" y="3429000"/>
            <a:ext cx="1447920" cy="990720"/>
            <a:chOff x="4343400" y="34290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4952880" y="3809880"/>
              <a:ext cx="53352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3581280"/>
              <a:ext cx="68580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8320" y="3429000"/>
              <a:ext cx="11430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20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48640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Vue_gene_Subdi_cle531cb6" descr=""/>
          <p:cNvPicPr/>
          <p:nvPr/>
        </p:nvPicPr>
        <p:blipFill>
          <a:blip r:embed="rId3"/>
          <a:stretch/>
        </p:blipFill>
        <p:spPr>
          <a:xfrm>
            <a:off x="762120" y="152280"/>
            <a:ext cx="784836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60640" y="2268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ance" descr=""/>
          <p:cNvPicPr/>
          <p:nvPr/>
        </p:nvPicPr>
        <p:blipFill>
          <a:blip r:embed="rId2"/>
          <a:stretch/>
        </p:blipFill>
        <p:spPr>
          <a:xfrm>
            <a:off x="423720" y="304920"/>
            <a:ext cx="8294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zone" descr=""/>
          <p:cNvPicPr/>
          <p:nvPr/>
        </p:nvPicPr>
        <p:blipFill>
          <a:blip r:embed="rId2"/>
          <a:stretch/>
        </p:blipFill>
        <p:spPr>
          <a:xfrm>
            <a:off x="-861840" y="271440"/>
            <a:ext cx="1086768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240" y="6622920"/>
            <a:ext cx="18907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M/ contrat E65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925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enary (1 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orkgroup (4 rooms conference or round table configu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fi equipments, projectors and so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ility to have catering there and coffee breaks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lf a day for an exhibition on port facilit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le%201%20sièges%20rouges%202" descr=""/>
          <p:cNvPicPr/>
          <p:nvPr/>
        </p:nvPicPr>
        <p:blipFill>
          <a:blip r:embed="rId2"/>
          <a:stretch/>
        </p:blipFill>
        <p:spPr>
          <a:xfrm>
            <a:off x="12600" y="825480"/>
            <a:ext cx="91188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" y="60199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ALLE%20N2" descr=""/>
          <p:cNvPicPr/>
          <p:nvPr/>
        </p:nvPicPr>
        <p:blipFill>
          <a:blip r:embed="rId2"/>
          <a:stretch/>
        </p:blipFill>
        <p:spPr>
          <a:xfrm>
            <a:off x="1138320" y="1476360"/>
            <a:ext cx="686736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7760" y="541008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alons%20BCD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763120" cy="4400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336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840" y="5791320"/>
            <a:ext cx="639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rest_Quartz1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848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33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hotels used for conferences (5 minutes walk from workshop faci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il (5 minutes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port (bus or Tax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ty bus or regular b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ner on a boat in roadstead where some plastic buoys are mo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t day, Trip to Ushant island (atons museum and 6 lighthouses on the island or around the Isla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PB</cp:lastModifiedBy>
  <dcterms:modified xsi:type="dcterms:W3CDTF">2007-04-17T09:48:58Z</dcterms:modified>
  <cp:revision>15</cp:revision>
  <dc:subject/>
  <dc:title>PowerPoint Presentation</dc:title>
</cp:coreProperties>
</file>